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01410"/>
        <c:axId val="53029756"/>
      </c:barChart>
      <c:catAx>
        <c:axId val="38801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29756"/>
        <c:crosses val="autoZero"/>
        <c:auto val="1"/>
        <c:lblAlgn val="ctr"/>
        <c:lblOffset val="100"/>
        <c:noMultiLvlLbl val="0"/>
      </c:catAx>
      <c:valAx>
        <c:axId val="53029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01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BF4-6AB4-4820-9D21-0128313D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1E4-4E58-4B2D-A63D-956786C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79F-D8BE-4EF2-ABE0-7C5F6DB0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8F2-E791-4388-A02A-7703E60F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4BB-4B26-431C-A199-E2EB38BF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A9A-E591-4CFD-8573-5FB29179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519-C5D5-4EEC-BCAE-E5019E5C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7DF-BCD9-4858-A627-3A9D1E50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781-25FA-4114-9E1B-123B68BD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418-E3DE-4EDB-BAD5-5E5592A9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C78-86E5-486D-B075-5A0EB6F9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CFF-D47B-4C34-B565-A4C5485B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35EAC-866D-46CC-B3DD-C48580BB72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