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51553"/>
        <c:axId val="74765865"/>
      </c:barChart>
      <c:catAx>
        <c:axId val="287515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65865"/>
        <c:crosses val="autoZero"/>
        <c:auto val="1"/>
        <c:lblAlgn val="ctr"/>
        <c:lblOffset val="100"/>
        <c:noMultiLvlLbl val="0"/>
      </c:catAx>
      <c:valAx>
        <c:axId val="74765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515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9337-8A4E-4062-B325-B4D0A274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8E2-0F1A-4484-AAEB-C6D36E71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E9D-4891-44B6-AEED-051F849A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46D-2CD8-4F56-A0A2-50FA864E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905-1FFA-46EA-A7A8-488E2BBF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38D-B0B5-4554-BB44-9771BEBB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335-8026-4089-B57E-C044A793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4B1-37C8-41B4-A360-E28CC5CC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8AF-2069-4272-A7DB-F993B200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93B-19B4-4C16-B6AF-B7C99924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8D61-53BB-4077-AF9F-A4D73F96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953B-7AD6-4339-B776-1FFB7D60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4DC1F-2F5C-4C54-B228-C0862D3941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