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86267"/>
        <c:axId val="39735539"/>
      </c:barChart>
      <c:catAx>
        <c:axId val="27886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35539"/>
        <c:crosses val="autoZero"/>
        <c:auto val="1"/>
        <c:lblAlgn val="ctr"/>
        <c:lblOffset val="100"/>
        <c:noMultiLvlLbl val="0"/>
      </c:catAx>
      <c:valAx>
        <c:axId val="39735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86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6FC-CD22-420F-BE0F-05155411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713-6D34-459B-AD0A-E68BE426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09F-52B1-412A-BF47-16DBEBF0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E80-CE73-4C66-98CA-39C25EE3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A7C-3C38-484E-BCF2-42C41187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2E6-1DB2-42E9-98F6-B7E36EFB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846-5C44-4CAD-94C7-120A82ED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882-739E-4C80-8CFB-FD6E275A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DB2-2491-47B2-90E1-0CB794DC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108-89A0-4709-BB2D-7C98189A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BA3-0CC4-48DB-9AC7-4E85B94E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877-211A-4724-B824-44377516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284C4-D610-4282-8E95-B228FF3C97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