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22397"/>
        <c:axId val="24749022"/>
      </c:barChart>
      <c:catAx>
        <c:axId val="88822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49022"/>
        <c:crosses val="autoZero"/>
        <c:auto val="1"/>
        <c:lblAlgn val="ctr"/>
        <c:lblOffset val="100"/>
        <c:noMultiLvlLbl val="0"/>
      </c:catAx>
      <c:valAx>
        <c:axId val="24749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22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4F1-852D-4D3C-8F8A-7BC08A6F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489-9701-4B8C-9E30-FD0685E6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033-0F18-4D5F-8F39-7AE0B54E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C1F-BB2F-4C23-BFD2-F3F13257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CB7-B110-4F6C-A880-7D1D6DBA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FE7-AD7F-435F-8579-4713B6CC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804-CD09-4FD4-95EA-C133B9AF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4AF-3324-4B0A-87DC-BD3F88C8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F60-2676-4FEB-A2EB-F8F8ACFC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587-88A1-452E-9FE0-BAD5A9E8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491-73B7-44A7-8A25-782031F7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493-952C-4453-A349-CF2E04CD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BB05E-CB2C-4CD4-A3FD-6AFC5D46AF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