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79476"/>
        <c:axId val="10886588"/>
      </c:barChart>
      <c:catAx>
        <c:axId val="63579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86588"/>
        <c:crosses val="autoZero"/>
        <c:auto val="1"/>
        <c:lblAlgn val="ctr"/>
        <c:lblOffset val="100"/>
        <c:noMultiLvlLbl val="0"/>
      </c:catAx>
      <c:valAx>
        <c:axId val="10886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79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562-6A87-4377-931A-D3EF2A0C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73D-135E-4FB4-85CB-35466DBC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76F-76CE-4CC2-96D9-38EDB072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8DF-5685-4794-812E-0B65A7EA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554-3B13-47C2-960F-0EF9ABE9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D74-EFEF-43CD-9D76-3C0407CA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A3F-1A47-4251-A644-E66A05D0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22E-1C4C-4EF4-B057-E2953E4B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BD8-A2FC-4E52-A8A1-CB15AD32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A26-ECAF-453F-AF5C-969805B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852-717C-4C9E-813E-EF22372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109-1FF4-4A80-8870-EFDC146E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E80C0-D270-4480-BA0B-1EE9EFE1B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