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88031"/>
        <c:axId val="87511319"/>
      </c:barChart>
      <c:catAx>
        <c:axId val="96388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11319"/>
        <c:crosses val="autoZero"/>
        <c:auto val="1"/>
        <c:lblAlgn val="ctr"/>
        <c:lblOffset val="100"/>
        <c:noMultiLvlLbl val="0"/>
      </c:catAx>
      <c:valAx>
        <c:axId val="87511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88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A87-5A98-46A6-ACEB-6374FCF8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4A4-D91E-4371-B49A-8545DFFA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6CE-734F-4C5C-A848-0E300DBD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93F5-4A2A-466E-9220-8EB757B1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50D-2567-4C81-8235-162833DD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BD0-D174-4918-A799-CBE4A961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E73-A258-4200-9A58-2BDC7B00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F5C-248F-4B61-B2EB-C95F55B1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1B6-F7AA-4ACE-A2BE-A09B46D8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7DD-42CA-4E2D-92A3-DB247809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306-68A9-4CE0-85F9-9FF75D0D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2D3-6C13-4C17-A752-E375704D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27620-A5FC-4642-BAF8-43766B947A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