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15350"/>
        <c:axId val="22979744"/>
      </c:barChart>
      <c:catAx>
        <c:axId val="84915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79744"/>
        <c:crosses val="autoZero"/>
        <c:auto val="1"/>
        <c:lblAlgn val="ctr"/>
        <c:lblOffset val="100"/>
        <c:noMultiLvlLbl val="0"/>
      </c:catAx>
      <c:valAx>
        <c:axId val="22979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5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B76-DBE0-48A7-9BB9-D981DD9B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EF3-09C9-4AC7-A9A7-D3AEB23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03C-5F46-440B-9362-10D4E425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864-21C6-4EF4-8F4F-86D6FCEB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08A-D4C0-4553-8260-7E352125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F9D-B2E7-4670-8918-CEABA06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C6E-606E-4C92-9AB4-6D26F06B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4D4-CD3F-4D78-914B-2C37486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71A-72AE-4552-A192-9A7909C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F46-F1C3-4066-AEEB-95E173BE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543-0A51-4892-8A7E-50BA9BA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17F-584C-4B79-9642-2D8DEBD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3CE39-017A-4170-B851-6C98EA831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