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04126"/>
        <c:axId val="52548714"/>
      </c:barChart>
      <c:catAx>
        <c:axId val="464041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48714"/>
        <c:crosses val="autoZero"/>
        <c:auto val="1"/>
        <c:lblAlgn val="ctr"/>
        <c:lblOffset val="100"/>
        <c:noMultiLvlLbl val="0"/>
      </c:catAx>
      <c:valAx>
        <c:axId val="525487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041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768-743D-4863-82E1-B8A6CBF6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ECE2-CFD9-43F7-8DF2-E4D9BC11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ED5-345D-4440-9EF3-2D74AF69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B36-8A7D-446C-87D7-09ECDDAB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01E-BF23-4F53-B952-037C92BA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E1E-889F-4FA2-B6D3-D8B8EBCD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C8C3-24C5-460C-9A11-7900B634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91C-B9BB-416A-8755-A8CBA196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7C53-78D4-49AE-9588-EB3210BD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8C13-E5F7-4D60-9142-944574B2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A80-7DED-4939-B8BB-87F9779F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424-3E14-4D7D-A8D2-CD3E7BB0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FFEE3-6B67-4284-A4CA-017F3A87C0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