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55619"/>
        <c:axId val="24037903"/>
      </c:barChart>
      <c:catAx>
        <c:axId val="7715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7903"/>
        <c:crosses val="autoZero"/>
        <c:auto val="1"/>
        <c:lblAlgn val="ctr"/>
        <c:lblOffset val="100"/>
        <c:noMultiLvlLbl val="0"/>
      </c:catAx>
      <c:valAx>
        <c:axId val="24037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5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6F6-8A16-4400-9FB3-5D3FF1C4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6D2-6DC7-4692-83D3-E84A32E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EDC-0018-4F00-AF91-5716984D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874-0857-4D1A-81A7-096717AD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80E-5560-49A5-A563-99CE5D1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DD9-D19C-4275-9728-A869B7A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3BD-C63C-4013-93D3-362030C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02E-9CED-4BFC-8AB4-A886AB76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C91-D37B-4591-8698-313B863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734-3247-4D03-AB39-5FD94F6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5F7-2EC9-4126-B4CC-BC7847AD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652-298F-465A-8515-94B7F47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CD44C-8517-48C6-8870-F92A35170C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