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56150"/>
        <c:axId val="88013310"/>
      </c:barChart>
      <c:catAx>
        <c:axId val="43856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3310"/>
        <c:crosses val="autoZero"/>
        <c:auto val="1"/>
        <c:lblAlgn val="ctr"/>
        <c:lblOffset val="100"/>
        <c:noMultiLvlLbl val="0"/>
      </c:catAx>
      <c:valAx>
        <c:axId val="88013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56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C06-634E-470B-AD93-9544C8A7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94C-EE92-4FC0-A49B-60B0F0D4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63D-220C-407C-A7F6-D7E1027D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969-3FA1-4D20-B784-A5964334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EBB-811F-44BD-A74E-9A0395D1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982-ABC8-4A7A-BEAF-010796C3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9A5-89D1-4921-AC31-7FB3CE8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F5C-1987-4EE8-8AA5-C2720C4E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211-133C-437E-8BD6-49379E6F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F22-4E75-4C7E-B2A7-99F35730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130-AD2E-43DB-A8EB-1D0C8130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2AD-CE9A-4D65-BDDF-B0B6058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4E53-470F-4A7A-8A68-6D3034C351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