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59490"/>
        <c:axId val="82016048"/>
      </c:barChart>
      <c:catAx>
        <c:axId val="67359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6048"/>
        <c:crosses val="autoZero"/>
        <c:auto val="1"/>
        <c:lblAlgn val="ctr"/>
        <c:lblOffset val="100"/>
        <c:noMultiLvlLbl val="0"/>
      </c:catAx>
      <c:valAx>
        <c:axId val="82016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9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DFD-4AB1-4995-9A58-7DC9AFF6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E6A-F693-46EF-86C7-BE762A75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FD9-6DBC-407F-AAE7-D8936F2D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581-4664-488C-97B9-358DE703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FC7-41E5-4998-8201-D0DC52AC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8CE-7120-40D8-A304-BC244788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542-B7F7-452F-9733-E991D81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C5C-46AD-4C75-A4D0-F1C24680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84D-FAB7-4D65-8D5F-8D7A181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3AE-5DB8-4CC1-950D-8B9E57C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892-08C4-4D9B-BE58-219755C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8C9-F80C-462C-9E10-96E17667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8B1B7-B176-4C08-925A-043FCBBB67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