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145192"/>
        <c:axId val="84305911"/>
      </c:barChart>
      <c:catAx>
        <c:axId val="881451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05911"/>
        <c:crosses val="autoZero"/>
        <c:auto val="1"/>
        <c:lblAlgn val="ctr"/>
        <c:lblOffset val="100"/>
        <c:noMultiLvlLbl val="0"/>
      </c:catAx>
      <c:valAx>
        <c:axId val="843059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1451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3648-2E57-44A4-9F2A-0D39DA29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92F0-2082-46BF-9A0C-CBA40614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D2AE-32CA-473D-9EEC-61187342B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5EFC-8EF8-4872-9CD4-6F5751EC3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ED2B-4FEC-499E-A49E-B0CD89EF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4D6D-002C-498F-8E6D-3C334A33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4206-0F5A-4F92-9F56-61A4C777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01BF-5A89-487D-A1D9-BA40C0D6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7763-34E9-44D7-B48F-542E6247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1151-4EB0-47DF-A1BD-F5616E92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1941-F9FD-4949-96C8-785B9A45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A6F5-BA02-477B-A2F0-5806073A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8AE32-8117-4623-B2BF-4ABFE67266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