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17230"/>
        <c:axId val="32340286"/>
      </c:barChart>
      <c:catAx>
        <c:axId val="41417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40286"/>
        <c:crosses val="autoZero"/>
        <c:auto val="1"/>
        <c:lblAlgn val="ctr"/>
        <c:lblOffset val="100"/>
        <c:noMultiLvlLbl val="0"/>
      </c:catAx>
      <c:valAx>
        <c:axId val="32340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17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8E8-5EC3-46C0-B7F4-C5E4B9AD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0C9-CCD9-4148-B0F3-6E183237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C81-46F6-449C-ADA6-717A8874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5F5-9EDA-480C-9A89-12301F42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5F5-7945-4F54-A3C7-6EE7B74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281-186A-45E2-A2CF-6AA41188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64C-69C8-434F-81A9-F3ADC3DC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A21-F8B2-4CF1-9406-7563C1EC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972-536D-473D-8D74-7E01E0DB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81D-16C2-4CF3-A5F8-4E4E9D73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B4F-5EA7-45C9-BF44-85B98B30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14A-2198-4318-A2FA-9D989009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DD19B-4D92-44F3-A061-0FBFC68AE4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