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49467"/>
        <c:axId val="73710148"/>
      </c:barChart>
      <c:catAx>
        <c:axId val="21949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10148"/>
        <c:crosses val="autoZero"/>
        <c:auto val="1"/>
        <c:lblAlgn val="ctr"/>
        <c:lblOffset val="100"/>
        <c:noMultiLvlLbl val="0"/>
      </c:catAx>
      <c:valAx>
        <c:axId val="73710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49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D0E-1F1E-4DBD-88A9-BE16B934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AA8-4377-45EB-97B2-41904B30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A94-E648-472D-9070-3E7A5F60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8F6-2BD7-403A-BC03-7F0033C5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AFB-A1C7-460C-BA95-C377E521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B79-9095-4382-8AB5-0E731D42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757-1977-4B57-9124-A3A7DFFC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EEF-1DDD-4901-AFD8-0576C7EE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016-BE2A-4118-BFB0-92656993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399-FFEC-45E6-AC52-4BBFC407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94C-62C7-402C-8543-D737460C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49F-9FFD-49AF-BCD9-D5AFE90C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D9C8C-6D73-452E-9B0D-B5E49F709C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